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D93-8C65-4714-AB3E-CC5CEAE2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1281-3618-4668-87F8-2CBAE170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582-023E-41F7-889E-ACB7AA11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BAA-1F59-4401-B097-E51EC53F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05C0-BB41-480D-843B-BB1FFA74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727-3FEF-4041-8BE5-99DD5A12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EDD3-DC24-404C-8C47-8C6B38BD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4A23-51B3-47BD-A819-C690E5A7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7AB3-BEEB-4D89-B462-F8959E21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D0B-2893-4340-A878-0D519386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E79-3D4A-4A26-8CBC-DA69F209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7A9F-735E-4A86-8B1A-335A24E0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120" y="624816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165200" y="624816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737560" y="624816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2362-0FD0-4C28-B667-13C7E868298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WordArt 4"/>
          <p:cNvSpPr txBox="1"/>
          <p:nvPr/>
        </p:nvSpPr>
        <p:spPr>
          <a:xfrm>
            <a:off x="2868480" y="1465200"/>
            <a:ext cx="518328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精神的三间小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0" name="WordArt 5"/>
          <p:cNvSpPr txBox="1"/>
          <p:nvPr/>
        </p:nvSpPr>
        <p:spPr>
          <a:xfrm>
            <a:off x="6872400" y="37209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毕淑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87440" y="25164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隶书"/>
              </a:rPr>
              <a:t>质疑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79320" y="1466280"/>
            <a:ext cx="1106028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990000"/>
                </a:solidFill>
                <a:latin typeface="隶书"/>
                <a:ea typeface="隶书"/>
              </a:rPr>
              <a:t>（二）欣赏构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任务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析文章结构，体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大中求小，小中见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精妙构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讨论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精神的小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三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足矣，房屋的空间，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足矣。可作者在文章开头却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有一颗大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的心灵，应该比大地、海洋和天空都更为博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这里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大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矛盾吗？而文章结尾又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把精神小屋建筑得美观结实就能矗立我们的精神大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又该如何理解呢？谈一谈你的看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528480" y="1563840"/>
            <a:ext cx="10989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这是一篇议论、描写、抒情于一体的说理性散文。文章以三间小屋为载体，阐述了精神追求的内涵及其意义，激励人们关注自我心灵，提升精神境界，使人格得到升华，表现了关注个性、关注自我、关注人的精神生活的思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528480" y="249120"/>
            <a:ext cx="42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课堂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119240" y="1489680"/>
            <a:ext cx="10258200" cy="19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抄写你最喜欢的语句或段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结合自己的阅读感悟，试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的精神小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为话题，写一篇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字左右的文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04640" y="473040"/>
            <a:ext cx="43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布置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35120" y="784080"/>
            <a:ext cx="1064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毕淑敏，女，国内一级作家，内科主治医师。祖籍山东文登，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95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年生于新疆伊宁，长在北京。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岁赴西藏高原阿里地区当兵，在海拔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米的高原部队服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年。历任卫生员，军医，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980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年转业回北京，在北师大获文学硕士学位。从事医学工作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年后，开始专业写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987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年发表处女作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昆仑殇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共发表作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余万字。著有长篇小说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红处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玲珑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拯救乳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；中短篇小说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昆仑殇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女人之约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预约死亡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；散文集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婚姻鞋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素面朝天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提醒幸福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保持惊奇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等；著有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毕淑敏文集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四卷。曾获庄重文文学奖、小说月报百花奖、当代文学奖、北京文学奖、昆仑文学奖、解放军文艺奖、青年文学奖等各种文学奖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余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19040" y="1904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隶书"/>
              </a:rPr>
              <a:t>走近作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281160" y="21060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字词正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2208240" y="213372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60200" y="1108440"/>
            <a:ext cx="12088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宽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宥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   ）    游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    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觑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麾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   ）下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袤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余   窗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棂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坍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诀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 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厄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襟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怀       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自惭形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秽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"/>
              </a:rPr>
              <a:t>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憎恶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俯拾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即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是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81160" y="21060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字词正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2208240" y="213372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160200" y="1108440"/>
            <a:ext cx="12088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宽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宥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yòu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 游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ì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    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觑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麾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huī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下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袤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楷体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zh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ì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余   窗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棂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í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楷体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坍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楷体"/>
              </a:rPr>
              <a:t>ā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诀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j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é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 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厄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è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襟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jīn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怀       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chěn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楷体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自惭形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秽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h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ì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"/>
              </a:rPr>
              <a:t>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憎恶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zēn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楷体"/>
              </a:rPr>
              <a:t>g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俯拾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即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j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í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是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1"/>
          <p:cNvSpPr/>
          <p:nvPr/>
        </p:nvSpPr>
        <p:spPr>
          <a:xfrm>
            <a:off x="2205000" y="838080"/>
            <a:ext cx="931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指因自己容貌举止不如别人而感到羞愧。后泛指因不如别人而感到惭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知道怎么办才好，形容遭受困窘或处境为难时心神慌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林林，众多的样子；总总，众多而杂乱的样子。形容杂乱众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要低下头来捡取，到处都是。形容多而易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斑鸠占据喜鹊的巢。比喻强者欺凌弱者，获得现成的东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树代替桃树僵死。比喻兄弟相爱相助，患难与共。后用以指互相顶替或代人受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容身体非常消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9225"/>
          <p:cNvSpPr/>
          <p:nvPr/>
        </p:nvSpPr>
        <p:spPr>
          <a:xfrm>
            <a:off x="449280" y="155520"/>
            <a:ext cx="2033640" cy="5158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词语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195120" y="836640"/>
            <a:ext cx="2117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惭形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知所措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林林总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俯拾即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鸠占鹊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李代桃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形销骨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92240" y="1248840"/>
            <a:ext cx="1181412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第一部分（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-6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：引出话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如何布置我们的心灵空间，即建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精神小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第二部分（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7-17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：分析人们的精神世界里应该建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三间小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第</a:t>
            </a:r>
            <a:r>
              <a:rPr b="1" lang="en-US" sz="2400" spc="-1" strike="noStrike">
                <a:solidFill>
                  <a:srgbClr val="990000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层（ </a:t>
            </a:r>
            <a:r>
              <a:rPr b="1" lang="en-US" sz="2400" spc="-1" strike="noStrike">
                <a:solidFill>
                  <a:srgbClr val="990000"/>
                </a:solidFill>
                <a:latin typeface="隶书"/>
                <a:ea typeface="隶书"/>
              </a:rPr>
              <a:t>7-8 </a:t>
            </a: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）：分析如何建立第一间精神小屋，即盛放着爱和恨的小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第</a:t>
            </a:r>
            <a:r>
              <a:rPr b="1" lang="en-US" sz="2400" spc="-1" strike="noStrike">
                <a:solidFill>
                  <a:srgbClr val="99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层（ </a:t>
            </a:r>
            <a:r>
              <a:rPr b="1" lang="en-US" sz="2400" spc="-1" strike="noStrike">
                <a:solidFill>
                  <a:srgbClr val="990000"/>
                </a:solidFill>
                <a:latin typeface="隶书"/>
                <a:ea typeface="隶书"/>
              </a:rPr>
              <a:t>9-13</a:t>
            </a: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）：分析如何建立第二间精神小屋，即盛放着事业的小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第</a:t>
            </a:r>
            <a:r>
              <a:rPr b="1" lang="en-US" sz="2400" spc="-1" strike="noStrike">
                <a:solidFill>
                  <a:srgbClr val="990000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层（</a:t>
            </a:r>
            <a:r>
              <a:rPr b="1" lang="en-US" sz="2400" spc="-1" strike="noStrike">
                <a:solidFill>
                  <a:srgbClr val="990000"/>
                </a:solidFill>
                <a:latin typeface="隶书"/>
                <a:ea typeface="隶书"/>
              </a:rPr>
              <a:t>14-17</a:t>
            </a: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）：分析如何建立第三间精神小屋，即安放我们自身的小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第三部分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8-19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：指出把精神的三间小屋建筑得美观结实的条件，并希望在此基 础上把小屋扩建成精神大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92240" y="255960"/>
            <a:ext cx="59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初读课文，理清思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31920" y="338760"/>
            <a:ext cx="57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隶书"/>
              </a:rPr>
              <a:t>再读课文，理解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38120" y="1659960"/>
            <a:ext cx="1131588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自然段写的是什么？与后文写的精神的三间小屋有什么关联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二）作者认为在人们的精神世界里应该建立哪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精神小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？ 各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三）作者认为应该修建三间精神小屋的原因是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98440" y="2214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赏析三间精神小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98440" y="928440"/>
            <a:ext cx="1012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（一）赏析第一间精神小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第一间精神小屋是什么样的？作者是怎样写的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第一间小屋中有爱也有恨，作者希望我们如何处理它们的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544680" y="2285640"/>
            <a:ext cx="88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（二）赏析第二间精神小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第二间小屋盛放我们的事业，作者是怎样描述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如何才能让第二间精神小屋坚固优雅？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06360" y="3766320"/>
            <a:ext cx="1157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（三）赏析第三间精神小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第三间小屋安放我们自身，作者是怎样描述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为什么作者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在我们的小屋里，住着所有我们认识的人，唯独没有我们自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如果我们的精神小屋不住着自己，会出现什么情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你认为在第三间精神小屋中应该怎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安放我们自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336600" y="2516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隶书"/>
              </a:rPr>
              <a:t>质疑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44480" y="1056600"/>
            <a:ext cx="1042992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隶书"/>
                <a:ea typeface="隶书"/>
              </a:rPr>
              <a:t>（一）理清逻辑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人认为三间小屋之间是并列平行关系，你同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根据你的理解，谈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精神的三间小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之间的内在联系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1T00:48:00Z</dcterms:created>
  <dc:creator> </dc:creator>
  <dc:description/>
  <dc:language>en-US</dc:language>
  <cp:lastModifiedBy>微软用户</cp:lastModifiedBy>
  <dcterms:modified xsi:type="dcterms:W3CDTF">2018-10-29T02:43:17Z</dcterms:modified>
  <cp:revision>1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